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96E-6F54-4978-B77F-F6403334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98C-5199-438A-8D26-85F7C44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005-A284-48CB-BA21-F1627A00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0C-5FD0-427A-999C-4B1FE6B2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FBA9-C5EE-492A-8D68-A5E33E82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F3E0-C340-4FB9-98CB-D3FDF196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A41-B5F2-4949-9F1C-FDC3931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F0C-415C-4AE1-86DD-BD2D296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A2CA-357A-4072-A2CB-0979852A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5B71-33FB-4BF8-A345-27810B52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CBB9-49CA-49A2-962D-64DE469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5F2-9EFD-47D9-9052-4E543DFE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706A-394F-4175-99EC-EF48CAC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D026-A4C2-445F-ABC7-83B38332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738-0AA9-4BF3-B310-63B8912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27FD-DBBE-4062-8093-CB52E41E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B58-D199-49A9-8157-8B7D7FC7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AC02-6755-4C85-9D62-350E1BE9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BA44-E2F6-4FC7-A439-6BB49473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D3C5-0DC1-49BF-AA99-626645C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BF1A-0047-42E9-8C8F-644202C8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8640-BC5C-44D4-95B1-5911534D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00E-183D-4B61-969B-1D9B842E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DC6C-DC4E-489D-AC8B-86FF2AAF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B562-4652-4FC2-8EA8-07E6E4A7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A4A8-EAC2-4392-AF39-C4FA1ED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1768-4E4C-4584-B102-B86BCF1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B4D1-1806-45FE-861E-6D97A74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9652-27F5-4327-9DDA-D31BCEBB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DB33-E2D5-446A-BD36-ABB5C1D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EC29-62E2-4794-814F-253A459A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78E9-C60F-4DFF-89BD-C906BD0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4FA7-8590-42DC-B711-187DD9A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7D2-152D-4083-9491-42AB2362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CBE1-E8B9-4A86-8DD4-40526B5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EDEB-CCD3-4361-9654-44E420A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105C-EFC9-47F5-BDCB-1072CA65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6F09-0C0D-4CA5-9365-A74EAFF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AF29-A767-498F-A58D-A87B853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3E9D-FAC6-4339-A942-E089395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92F4-E7C1-4C98-AFD0-46EE51CF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BE5A-37BA-4A38-AFD3-ADECB0E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6AE3-9C92-4D94-B6B6-1DF0F01A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687-0DC0-420E-8213-AA073BD6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ED9-AC5F-4064-AF7B-B56777D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802-0499-4941-B632-787886D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5FA-65F4-4A86-935A-98F0BAD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84F-932C-4797-B919-E35D603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249-7DE3-48E1-B6F3-7C4FF2061D1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EFB6-11AB-4252-A272-810D3C9823A2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D38-9CC4-40E3-AE75-2164D5C662CE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B371-9F93-439B-8501-E1781AD62C0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ject EUR-EMS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Projects  within the proje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Maths develop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ld Cup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cience develop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aching Models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Environmental science/Outdoor educ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Education business and science and technology developme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rampolin’ Initia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utomation Region’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k Related Village Proj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nterprise and Business Challenge 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versity co-operation in initial and in-service train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versity co-operation in research and action research activit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-TEAM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nter-school co-ope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yedean/Ronnbysko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er Park/St Ilians skola – linked to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owell’s/… (prima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ussage/Ronnbyskolan (prima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omas Keble/Lindbosko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ew possibilities 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e have not yet thought of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23:58Z</dcterms:created>
  <dc:creator> </dc:creator>
  <dc:description/>
  <dc:language>en-US</dc:language>
  <cp:lastModifiedBy>MARTIN WHITTLE</cp:lastModifiedBy>
  <dcterms:modified xsi:type="dcterms:W3CDTF">2010-03-08T18:11:32Z</dcterms:modified>
  <cp:revision>13</cp:revision>
  <dc:subject/>
  <dc:title>Maths developments</dc:title>
</cp:coreProperties>
</file>